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.wav" ContentType="audio/x-wav"/>
  <Override PartName="/ppt/media/image7.png" ContentType="image/png"/>
  <Override PartName="/ppt/media/mmburger%5B1%5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C04-4864-4E2E-98E9-F462FCE7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CE8-6D72-4B7C-9AE5-D749D3C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E30-16F8-4B08-85E9-11409ED2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6FB-D853-41CA-B374-4ED7C14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DBB5-16AC-4115-9D68-06531B61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9502-304E-4906-9993-5CC7372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7075-0C45-4AE0-AE15-5540E438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DF49-758F-4D6B-89FC-F3F094C5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1DE-320A-422C-81FE-6403492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CB05-00F7-41FF-8DCB-DA4A18F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586-4FD1-4476-8EAA-300AF11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E3D-2E78-4607-9F5F-D92EF30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B25D-2DB0-4858-A5B3-AAAD7D7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FEDC-3671-4961-892C-CEF558D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E61-D755-4906-B0ED-FE38B15D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56B-67F8-4FF7-B488-38A6F6B8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B33-8296-46C4-BE34-E49E72A6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E6C-B5B7-4F90-B20A-D46E06BA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8EF-7E8C-48B6-8C20-647E760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CDE-A84F-4422-AA37-0D2E0017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901-BBB3-4356-AE75-C0259CA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EF9-5F69-40CE-8098-F33D8AE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930-777B-4895-AD15-AB52DDF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3AD-4888-4226-8BEE-B6D7B6F7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9910-C0A7-476C-8E55-84E111394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CA9-B447-4158-9047-99FBF602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.wav"/><Relationship Id="rId3" Type="http://schemas.openxmlformats.org/officeDocument/2006/relationships/audio" Target="../media/mmburger%5B1%5D.wav"/><Relationship Id="rId4" Type="http://schemas.openxmlformats.org/officeDocument/2006/relationships/audio" Target="../media/mmburger%5B1%5D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n AH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</a:t>
            </a:r>
            <a:r>
              <a:rPr b="1" lang="en-US" sz="2600" spc="-1" strike="noStrike" u="sng">
                <a:solidFill>
                  <a:srgbClr val="ff1d1d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</a:t>
            </a:r>
            <a:r>
              <a:rPr b="0" lang="en-US" sz="4600" spc="-1" strike="noStrike" u="sng">
                <a:solidFill>
                  <a:srgbClr val="008600"/>
                </a:solidFill>
                <a:uFillTx/>
                <a:latin typeface="Hot Pizza"/>
              </a:rPr>
              <a:t>A Perfect Essay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9907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reate a rough draft in outline form using this form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971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[underline or highlight 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00200"/>
            <a:ext cx="7086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reate a loose outline of your “meat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 in this mann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72880"/>
            <a:ext cx="8763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600"/>
                </a:solidFill>
                <a:latin typeface="Hot Pizza"/>
              </a:rPr>
              <a:t>DO-NOW In Clas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8229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kip a line after your last “meat” ¶ and write you concluding ¶ out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1219320"/>
            <a:ext cx="8229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539720"/>
            <a:ext cx="80010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3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2552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8222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Now, Go  Home &amp; Write Your  Essay  And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Dazzle Me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With Your Brilliance</a:t>
            </a: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990720"/>
            <a:ext cx="6324480" cy="534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YOU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CA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DO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IT!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60020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6623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057400"/>
            <a:ext cx="8382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mith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an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</a:t>
            </a:r>
            <a:r>
              <a:rPr b="1" lang="en-US" sz="2700" spc="-1" strike="noStrike" baseline="30000">
                <a:solidFill>
                  <a:srgbClr val="fa0000"/>
                </a:solidFill>
                <a:latin typeface="Comic Sans MS"/>
              </a:rPr>
              <a:t>c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7913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3400" spc="-1" strike="noStrike">
                <a:solidFill>
                  <a:srgbClr val="3333cc"/>
                </a:solidFill>
                <a:latin typeface="Comic Sans MS"/>
              </a:rPr>
              <a:t> begin with: In Document 3,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10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56020</cp:lastModifiedBy>
  <dcterms:modified xsi:type="dcterms:W3CDTF">2010-10-26T13:07:36Z</dcterms:modified>
  <cp:revision>108</cp:revision>
  <dc:subject/>
  <dc:title>How To Do an AHAP DNQ</dc:title>
</cp:coreProperties>
</file>